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9A21-7CD5-49DE-B470-5DD8329280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6F86-B52F-44A2-9EDB-587420914A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AB2E-CC33-4795-BDF5-9BEB455631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4800-FF30-4933-8B94-A09CA1876F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5AEA-34D5-46AD-AEF9-BE1389FC5A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5F5A-F334-4AB1-AE88-38526B3D9C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40FFE-E828-46F1-ADB1-8C1C5A00C5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A8A3-5609-40A1-BF7B-157B305214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C507-C032-419B-9979-3D3BFEB4F9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256F-FB73-4E22-81DB-B87AB56AF4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4BCC7-D45C-4995-BF25-9DF33773E5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F879-3B33-4DF5-8B95-1606573DC89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BFBA-EF26-4AF1-8FD1-DDC00A847E5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2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n.org/%23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8855-DB0D-4215-B363-B193E924FBA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70080" y="1981080"/>
            <a:ext cx="11531520" cy="901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isierung von Ressourcen bereits in RDF zur Kennzeichnung von Listen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ädika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weist dem Subjekt das Objekt als Typ z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bjekt aufgefasst als Bezeichner für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er die durch das Subjekt bezeichnete Ressource (als sog.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Instanz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angehört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3808440" y="3213000"/>
            <a:ext cx="8066160" cy="2616480"/>
          </a:xfrm>
          <a:prstGeom prst="rect">
            <a:avLst/>
          </a:prstGeom>
          <a:ln w="0">
            <a:noFill/>
          </a:ln>
        </p:spPr>
      </p:pic>
      <p:sp>
        <p:nvSpPr>
          <p:cNvPr id="437" name="Oval 4"/>
          <p:cNvSpPr/>
          <p:nvPr/>
        </p:nvSpPr>
        <p:spPr>
          <a:xfrm>
            <a:off x="3835440" y="4559400"/>
            <a:ext cx="2921040" cy="140976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EA11-6833-4573-B6B9-152DBEDFC11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t „Semantic Web - Grundlagen“ als Instanz der (neu definierten) Klasse „Lehrbu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zugehörigkeit ist nicht exklusiv, z.B. mit o.g. Tripel gleichzeitig möglich: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Unterhaltsam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llgemein: a priori syntaktisch keine eindeutige Unterscheidung zwischen Individuen- und Klassenbezeichnern möglich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uch in der Realität Charakterisierung manchmal schwierig, beispielsweise für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un.org/#UR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CC6A-50CB-4ACB-A6FA-C60CC7CC44E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e Klasse aller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och manchmal eindeutige Kennzeichnung einer URI als Klassenbezeichner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 durch Typung der betreffenden URI als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s:Lehrbuch   rdf:type   rdfs:Class 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st also die „Klasse aller Klassen“ und enthält sich damit auch selbst, d.h. das folgende Tripel ist immer wahr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  rdf:type   rdfs:Class  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7A53-CF2E-4289-A0CF-90AAAF0E3BA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 - Motiv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gebe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oblem: Suche nach Instanzen der Klasse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liefert kein Result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keit: Hinzufügen vo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öst das Problem aber nur für die eine Ressourc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tomatisches Hinzufügen für alle Instanzen führt zu unnötig großen RDF-Dokumen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E287-6A68-4360-8E4A-7B57691CB86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innvoller: einmalige Aussage, dass jedes Lehrbuch auch ein Buch ist, d.h. jed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ist automatisch auch ein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1279-97AC-440D-B7DC-B8EDC6E0786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630720" indent="-405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 ist reflextiv, d.h. jede Klasse ist Unterklasse von sich selbst, so dass z.B. gilt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Lehrbuch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mgekehrt: Festlegung der Gleichheit zweier Klassen durch gegenseitige Unterklassenbeziehung, etwa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ospital   rdfs:subClassOf   ex:Krankenhaus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Krankenhaus   rdfs:subClassOf   ex:Hospital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3EE6-F654-4A9B-8FFF-F82664FFAC3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Üblich: nicht nur einzelne Unterklassenbeziehungen sondern ganze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(auch: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Taxonomien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z.B.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rdfs:subClassOf   ex:Buch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        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Zeitschrift   rdfs:subClassOf   ex:Printmedium 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in RDFS-Semantik verankert: Transitivität der </a:t>
            </a: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-Property, d.h. es folgt automatisch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5CFD-3F34-4728-831B-090334E7261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onders ausgepräg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twa in Biologie (z.B.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fikation von Lebe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.B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oologische Einord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ung des modern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s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7429680" y="1847880"/>
            <a:ext cx="5562360" cy="78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RDF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="http://www.w3.org/1999/02/22-rdf-syntax-ns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s="http://www.w3.org/2000/01/rdf-schema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ex="http://www.semantic-web-grundlagen.de/Beispiele#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Ani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Chordat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Chorda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Ani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Mam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S¨auge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Chordat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Primate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Primat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Mam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Primates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inidae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oderner 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o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:RDF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C94B-C402-43C5-9D97-3C0C2B4FA46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uitive Parallele zur Mengenlehre: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entspricht     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</a:t>
            </a:r>
            <a:br>
              <a:rPr sz="54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entspricht     </a:t>
            </a:r>
            <a:r>
              <a:rPr b="0" lang="en-US" sz="1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</a:t>
            </a:r>
            <a:endParaRPr b="0" lang="en-US" sz="5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chtfertigt beispielsweise auch die Reflexivität und Transitivität von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94BC-6BAD-474E-9280-305097FA913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in RDF/XML-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en bei Angabe von Klasseninstanzen möglich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br>
              <a:rPr sz="2600"/>
            </a:br>
            <a:br>
              <a:rPr sz="26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Stelle v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Description rdf:about= "&amp;ex;SebastianRudolph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rdf:type rdf:resource= "&amp;ex;HomoSapiens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/rdf:Description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mentsprechend auch</a:t>
            </a:r>
            <a:br>
              <a:rPr sz="42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/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RDF Schema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1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7" name="Picture 12" descr=""/>
          <p:cNvPicPr/>
          <p:nvPr/>
        </p:nvPicPr>
        <p:blipFill>
          <a:blip r:embed="rId2"/>
          <a:srcRect l="33175" t="59995" r="21726" b="32560"/>
          <a:stretch/>
        </p:blipFill>
        <p:spPr>
          <a:xfrm>
            <a:off x="8940960" y="6591240"/>
            <a:ext cx="1930320" cy="33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9" name="Rectangle 63"/>
          <p:cNvSpPr/>
          <p:nvPr/>
        </p:nvSpPr>
        <p:spPr>
          <a:xfrm>
            <a:off x="660240" y="4952880"/>
            <a:ext cx="6108840" cy="43200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Rectangle 64"/>
          <p:cNvSpPr/>
          <p:nvPr/>
        </p:nvSpPr>
        <p:spPr>
          <a:xfrm>
            <a:off x="-12600" y="9455040"/>
            <a:ext cx="1501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zwei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16F9-1EF6-431F-BBC4-849A9BD6E0B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esou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Ressourcen (also sämtliche Elemente des Gegenstandsbereiches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= die Ressourcen, die durch Prädikats-URIs referenziert werden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List, rdf:Seq, rdf:Bag, rdf:Alt, rdfs:Contai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 verschiedener Arten von Lis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, die eine Enthaltenseinsbeziehung darstell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5E3C-AEC6-4192-9BF7-99D9C890E2F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4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XML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Werte des vordefinierten Datentyps XMLLi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Literalwerte (enthält also alle Datentypen als Unter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atatyp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Datentypen (ist also wie rdfs:Class eine Klasse von 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reifizierten Aussagen (s. dor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CA69-BACD-4672-AA90-7960F7DFA7F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03C9-EC22-48B3-824D-C9673AC9167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ndere Bezeichnungen: Relationen, Bezieh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Propertys sind in RDF(S) nicht (wie in OOP) speziellen Klassen zugeodn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-Bezeichner in Tripeln üblicherweise an Prädikatsstell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en, auf welche Art zwei Ressourcen zueinander in Beziehung ste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athematisch oft dargestellt als Menge von Paar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verheiratet_mit = {(Adam,Eva),(Brad,Angelina),...}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RI wird als Property-Bezeichner gekennzeichnet durch entsprechende Typu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   rdf:type   rdf:Property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DEC6-1311-4B54-A59D-F5DFB865993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9800" y="2425680"/>
            <a:ext cx="1242072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ähnlich zu Unter-/Oberklassen auch Unter-/Oberpropertys denkbar und sinnvol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rstellung in RDFS mittels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z.B.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glücklichVerheiratetMit   rdf:subPropertyOf   rdf:verheiratetMit   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, aus dem Tripel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glücklich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zu schlussfolgern,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ss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132F-82AA-4F46-A52A-274B7FEC276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637F-6B66-4F9B-A9A3-7D21EC4E4E6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häufig: Property kann sinnvoll nur ganz bestimmte Ressourcen verbinden, z.B. verbindet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nur Publikationen mit Verlagen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.h. für alle URIs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, b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ex:verlegtBei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s auch gilt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rdf:type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b   rdf:type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kann in RDFS direkt kodiert werden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domain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range   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uch zur Angabe von Datentypen für Literale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hatAlter   rdfs:range   xsd:nonNegativeInteger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C4F7-10FE-428C-98E4-EB43B98BFE0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opertyeinschränkungen bieten die einzige Möglichkeit, semantische Zusammenhänge zwischen Propertys und Klassen zu spezifizier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chtung: Propertyeinschränkungen wirken global und konjunktiv, z.B.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Kochbuch   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Märchenbuch   . 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edeutet: jede Entität, von der jemand Autor ist, ist </a:t>
            </a: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gleichzeitig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Kochbuch und Märchenb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her: als domain/range immer allgemeinste mögliche Klasse verwend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35AB-0B4D-48F9-A003-3CCEB1BEC90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DC8E-0907-49B1-945A-79A67E450F9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zur Erinnerung: offene Listen in RDF: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6" name="Picture 3" descr=""/>
          <p:cNvPicPr/>
          <p:nvPr/>
        </p:nvPicPr>
        <p:blipFill>
          <a:blip r:embed="rId1"/>
          <a:stretch/>
        </p:blipFill>
        <p:spPr>
          <a:xfrm>
            <a:off x="1039680" y="3098880"/>
            <a:ext cx="10923840" cy="354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B211-80FA-4D61-89E6-EC71C9156AF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7CBD-91BF-4A76-8059-B5B25181FBA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als Oberklasse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eq, rdf:Bag, rdf:Al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lemente sind keine Individuen i.e.S. sondern selbst Property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intendierte Semantik: jede Property, die aussagt, dass das Subjekt im Objekt enthalten ist, ist Instanz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gilt also insbesondere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1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2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tc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21BF-5669-4CA2-A9AF-9C4F4386525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Property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member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Oberproperty aller i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nthaltenen Propertys, also die „universelle Enthaltenseinsrelation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mit in RDFS-Semantik verankert: wann immer für eine Property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gilt,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p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sofort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rdfs:member   b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24A3-6CD8-490F-91B7-43E25E5FB6F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01E8-8319-40F5-ACF9-2A15DB0566E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ex:vermutet "Der Butler hat den Gärtner ermordet."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auf Literal-Objekt kann schlecht in anderen Aussagen Bezug genommen werden (keine URI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 ex:vermutet  ex:derButlerHatDenGärtnerErmordet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innere Struktur der dass-Aussage geht verlor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7724-414D-4C04-8E56-EFAEEA7EDEF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inzelne dass-Aussage leicht in RDF modellierba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butler   ex:hatErmordet   ex:gärtner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wünschenswert: ganzes RDF-Tripel als Objekt eines anderen Tripels; ist aber kein gültiges RD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9859-0462-405F-8B0D-55FD316530D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4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6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Oval 6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Oval 7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4212360" y="4872960"/>
            <a:ext cx="2382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Rectangle 9"/>
          <p:cNvSpPr/>
          <p:nvPr/>
        </p:nvSpPr>
        <p:spPr>
          <a:xfrm>
            <a:off x="3912120" y="7933680"/>
            <a:ext cx="3085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Line 10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Line 11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Oval 12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Line 13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Line 14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Line 15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Line 16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17"/>
          <p:cNvSpPr/>
          <p:nvPr/>
        </p:nvSpPr>
        <p:spPr>
          <a:xfrm>
            <a:off x="1494360" y="6790680"/>
            <a:ext cx="2103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18"/>
          <p:cNvSpPr/>
          <p:nvPr/>
        </p:nvSpPr>
        <p:spPr>
          <a:xfrm>
            <a:off x="4181400" y="6917760"/>
            <a:ext cx="2545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19"/>
          <p:cNvSpPr/>
          <p:nvPr/>
        </p:nvSpPr>
        <p:spPr>
          <a:xfrm>
            <a:off x="7440840" y="6790680"/>
            <a:ext cx="189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7EDF-1F11-4346-9DCA-F6796C80E4F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4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6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4161240" y="4833720"/>
            <a:ext cx="2015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3859920" y="7894440"/>
            <a:ext cx="261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Line 9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Line 10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A2B7-6B88-4732-8013-0DF32E511CB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6" name="Oval 3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Oval 5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4147920" y="4834080"/>
            <a:ext cx="173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Line 8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Oval 9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Line 10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Line 11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Line 12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13"/>
          <p:cNvSpPr/>
          <p:nvPr/>
        </p:nvSpPr>
        <p:spPr>
          <a:xfrm>
            <a:off x="1437840" y="6751800"/>
            <a:ext cx="153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14"/>
          <p:cNvSpPr/>
          <p:nvPr/>
        </p:nvSpPr>
        <p:spPr>
          <a:xfrm>
            <a:off x="4122720" y="6878880"/>
            <a:ext cx="185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15"/>
          <p:cNvSpPr/>
          <p:nvPr/>
        </p:nvSpPr>
        <p:spPr>
          <a:xfrm>
            <a:off x="7387920" y="6751800"/>
            <a:ext cx="138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013F-5E08-497F-9B97-15352E0A80A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reifiziertes Tripel muss nicht unbedingt gelt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wäre auch nicht immer sinnvoll, z.B. bei Aussagen wie: „Der Detektiv bezweifelt, dass der Butler den Gärtner ermordet hat.“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dies gewünscht ist, muss das originale (unreifizierte) Tripel dem RDF-Dokument nochmals hinzugefügt werd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er Klassenbezeichner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ient zur Kennzeichnung aller solcher Aussagen-Hilfskno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auf eine Aussage nicht (extern) Bezug genommen wird, kann der entsprechende Hilfsknoten ein bnode sei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6253-3519-4222-B586-4FD63FC9BD8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Übungsaufgabe: noch eine Kriminalgeschichte..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5" name="Picture 3" descr=""/>
          <p:cNvPicPr/>
          <p:nvPr/>
        </p:nvPicPr>
        <p:blipFill>
          <a:blip r:embed="rId1"/>
          <a:stretch/>
        </p:blipFill>
        <p:spPr>
          <a:xfrm>
            <a:off x="584280" y="3224160"/>
            <a:ext cx="11866320" cy="546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DF2C-C96E-4E4E-B5C8-61D478EBAD3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4248-EEEE-46FE-A97B-5ADC156902F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882B-B7C9-42C1-A50F-79D6D30FF9F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bei Programmiersprachen manchmal Hinzufügen von Kommentaren (ohne Auswirkung auf Semantik)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ck: Erhöhung der Verständlichkeit für menschlichen Nutz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empfiehlt sich (z.B. aus Tool-Kompatibilitätsgründen) auch dieses Wissen als Graph zu repräsent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o: Satz von Propertys, die diesem Zweck die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E085-82F0-4046-A3FD-D10072BAB4D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alternativen Namen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oftmals sind URIs schwer lesbar; zumindest „unhandli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urch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zugewiesener Name wird z.B. häufig von Tools bei der graphischen Darstellung verwend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spiel (incl. Sprachinformation)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4D4A-159A-4D07-A6ED-C2B23AB5C88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mment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umfangreichen Kommentar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nhaltet z.B. natürlichsprachliche Definition einer neu eingeführten Klasse - erleichtert spätere intentionsgemäße Wiederverwendu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eeAlso, rdfs:definedBy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ies, die Ressourcen (URIs!) angeben, die weitere Informationen bzw. eine Definition der Subjekt-Ressource bereitstellen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561D-BFC2-47BB-AB46-586016BB13E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wendungsbeispi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2171880" y="2971800"/>
            <a:ext cx="9727920" cy="5738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296E-2726-4062-83E2-2DAD6056142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D28B-C1D7-4DEA-A5B2-D1D72868FC7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 den durch RDFS bereitgestellten Sprachmitteln können bestimmte Gegenstandsbereiche bereits in wichtigen Aspekten semantisch erfass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f der Basis der speziellen Semantik von RDFS kann schon ein gewisses Maß impliziten Wissens geschlussfolger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hin stellt RDFS eine (wenn auch noch vergleichsweise wenig ausdrucksstarke) Ontologiesprache d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4522-DFD1-40E1-B281-38FC7AFC5A0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203040" y="1892160"/>
            <a:ext cx="8026560" cy="30229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3" descr=""/>
          <p:cNvPicPr/>
          <p:nvPr/>
        </p:nvPicPr>
        <p:blipFill>
          <a:blip r:embed="rId2"/>
          <a:stretch/>
        </p:blipFill>
        <p:spPr>
          <a:xfrm>
            <a:off x="3529080" y="3195720"/>
            <a:ext cx="9450360" cy="6507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DD4D-F257-4B2B-931F-71843C52BAA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647640" y="4114800"/>
            <a:ext cx="11633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XML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596" name="AutoShape 4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AutoShape 5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8" name="AutoShape 6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9" name="Rectangle 7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00" name="Group 8"/>
          <p:cNvGrpSpPr/>
          <p:nvPr/>
        </p:nvGrpSpPr>
        <p:grpSpPr>
          <a:xfrm>
            <a:off x="938160" y="5029200"/>
            <a:ext cx="11017800" cy="3978360"/>
            <a:chOff x="938160" y="5029200"/>
            <a:chExt cx="11017800" cy="3978360"/>
          </a:xfrm>
        </p:grpSpPr>
        <p:grpSp>
          <p:nvGrpSpPr>
            <p:cNvPr id="601" name="Group 9"/>
            <p:cNvGrpSpPr/>
            <p:nvPr/>
          </p:nvGrpSpPr>
          <p:grpSpPr>
            <a:xfrm>
              <a:off x="4437360" y="5029200"/>
              <a:ext cx="3079800" cy="754200"/>
              <a:chOff x="4437360" y="5029200"/>
              <a:chExt cx="3079800" cy="754200"/>
            </a:xfrm>
          </p:grpSpPr>
          <p:sp>
            <p:nvSpPr>
              <p:cNvPr id="602" name="Oval 10"/>
              <p:cNvSpPr/>
              <p:nvPr/>
            </p:nvSpPr>
            <p:spPr>
              <a:xfrm>
                <a:off x="4437360" y="5029200"/>
                <a:ext cx="307980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3" name="Rectangle 11"/>
              <p:cNvSpPr/>
              <p:nvPr/>
            </p:nvSpPr>
            <p:spPr>
              <a:xfrm>
                <a:off x="4741560" y="5164560"/>
                <a:ext cx="2471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Description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04" name="Group 12"/>
            <p:cNvGrpSpPr/>
            <p:nvPr/>
          </p:nvGrpSpPr>
          <p:grpSpPr>
            <a:xfrm>
              <a:off x="5289120" y="6108840"/>
              <a:ext cx="1370880" cy="753840"/>
              <a:chOff x="5289120" y="6108840"/>
              <a:chExt cx="1370880" cy="753840"/>
            </a:xfrm>
          </p:grpSpPr>
          <p:sp>
            <p:nvSpPr>
              <p:cNvPr id="605" name="Oval 13"/>
              <p:cNvSpPr/>
              <p:nvPr/>
            </p:nvSpPr>
            <p:spPr>
              <a:xfrm>
                <a:off x="5311800" y="6108840"/>
                <a:ext cx="1323720" cy="75384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6" name="Rectangle 14"/>
              <p:cNvSpPr/>
              <p:nvPr/>
            </p:nvSpPr>
            <p:spPr>
              <a:xfrm>
                <a:off x="5289120" y="6248160"/>
                <a:ext cx="13708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typ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07" name="Group 15"/>
            <p:cNvGrpSpPr/>
            <p:nvPr/>
          </p:nvGrpSpPr>
          <p:grpSpPr>
            <a:xfrm>
              <a:off x="938160" y="6324480"/>
              <a:ext cx="1841400" cy="546120"/>
              <a:chOff x="938160" y="6324480"/>
              <a:chExt cx="1841400" cy="546120"/>
            </a:xfrm>
          </p:grpSpPr>
          <p:sp>
            <p:nvSpPr>
              <p:cNvPr id="608" name="Oval 16"/>
              <p:cNvSpPr/>
              <p:nvPr/>
            </p:nvSpPr>
            <p:spPr>
              <a:xfrm>
                <a:off x="938160" y="6324480"/>
                <a:ext cx="1841400" cy="54612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09" name="Rectangle 17"/>
              <p:cNvSpPr/>
              <p:nvPr/>
            </p:nvSpPr>
            <p:spPr>
              <a:xfrm>
                <a:off x="1335240" y="6354720"/>
                <a:ext cx="10476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ID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10" name="Line 18"/>
            <p:cNvSpPr/>
            <p:nvPr/>
          </p:nvSpPr>
          <p:spPr>
            <a:xfrm flipH="1">
              <a:off x="2671560" y="5562720"/>
              <a:ext cx="1841760" cy="86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1" name="Rectangle 19"/>
            <p:cNvSpPr/>
            <p:nvPr/>
          </p:nvSpPr>
          <p:spPr>
            <a:xfrm>
              <a:off x="1363320" y="7396200"/>
              <a:ext cx="9766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2" name="Line 20"/>
            <p:cNvSpPr/>
            <p:nvPr/>
          </p:nvSpPr>
          <p:spPr>
            <a:xfrm>
              <a:off x="5950080" y="5778360"/>
              <a:ext cx="18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3" name="Line 21"/>
            <p:cNvSpPr/>
            <p:nvPr/>
          </p:nvSpPr>
          <p:spPr>
            <a:xfrm flipH="1">
              <a:off x="5164560" y="6756480"/>
              <a:ext cx="43344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4" name="Line 22"/>
            <p:cNvSpPr/>
            <p:nvPr/>
          </p:nvSpPr>
          <p:spPr>
            <a:xfrm>
              <a:off x="1805040" y="6870600"/>
              <a:ext cx="1440" cy="430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5" name="Rectangle 23"/>
            <p:cNvSpPr/>
            <p:nvPr/>
          </p:nvSpPr>
          <p:spPr>
            <a:xfrm>
              <a:off x="1271160" y="8556120"/>
              <a:ext cx="7320960" cy="451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American Typewriter"/>
                  <a:ea typeface="American Typewriter"/>
                  <a:hlinkClick r:id="rId1"/>
                </a:rPr>
                <a:t>http://www.w3.org/2000/01/rdf-schema#</a:t>
              </a: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Class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6" name="Line 24"/>
            <p:cNvSpPr/>
            <p:nvPr/>
          </p:nvSpPr>
          <p:spPr>
            <a:xfrm>
              <a:off x="4974120" y="7950240"/>
              <a:ext cx="288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7" name="Line 25"/>
            <p:cNvSpPr/>
            <p:nvPr/>
          </p:nvSpPr>
          <p:spPr>
            <a:xfrm>
              <a:off x="7115760" y="5676840"/>
              <a:ext cx="173376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18" name="Group 26"/>
            <p:cNvGrpSpPr/>
            <p:nvPr/>
          </p:nvGrpSpPr>
          <p:grpSpPr>
            <a:xfrm>
              <a:off x="9530640" y="7188120"/>
              <a:ext cx="2425320" cy="754200"/>
              <a:chOff x="9530640" y="7188120"/>
              <a:chExt cx="2425320" cy="754200"/>
            </a:xfrm>
          </p:grpSpPr>
          <p:sp>
            <p:nvSpPr>
              <p:cNvPr id="619" name="Oval 27"/>
              <p:cNvSpPr/>
              <p:nvPr/>
            </p:nvSpPr>
            <p:spPr>
              <a:xfrm>
                <a:off x="953064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0" name="Rectangle 28"/>
              <p:cNvSpPr/>
              <p:nvPr/>
            </p:nvSpPr>
            <p:spPr>
              <a:xfrm>
                <a:off x="971172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21" name="Group 29"/>
            <p:cNvGrpSpPr/>
            <p:nvPr/>
          </p:nvGrpSpPr>
          <p:grpSpPr>
            <a:xfrm>
              <a:off x="3759480" y="7188120"/>
              <a:ext cx="2425320" cy="754200"/>
              <a:chOff x="3759480" y="7188120"/>
              <a:chExt cx="2425320" cy="754200"/>
            </a:xfrm>
          </p:grpSpPr>
          <p:sp>
            <p:nvSpPr>
              <p:cNvPr id="622" name="Oval 30"/>
              <p:cNvSpPr/>
              <p:nvPr/>
            </p:nvSpPr>
            <p:spPr>
              <a:xfrm>
                <a:off x="375948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3" name="Rectangle 31"/>
              <p:cNvSpPr/>
              <p:nvPr/>
            </p:nvSpPr>
            <p:spPr>
              <a:xfrm>
                <a:off x="394056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24" name="Group 32"/>
            <p:cNvGrpSpPr/>
            <p:nvPr/>
          </p:nvGrpSpPr>
          <p:grpSpPr>
            <a:xfrm>
              <a:off x="7904880" y="5994360"/>
              <a:ext cx="3110040" cy="754200"/>
              <a:chOff x="7904880" y="5994360"/>
              <a:chExt cx="3110040" cy="754200"/>
            </a:xfrm>
          </p:grpSpPr>
          <p:sp>
            <p:nvSpPr>
              <p:cNvPr id="625" name="Oval 33"/>
              <p:cNvSpPr/>
              <p:nvPr/>
            </p:nvSpPr>
            <p:spPr>
              <a:xfrm>
                <a:off x="7904880" y="5994360"/>
                <a:ext cx="311004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26" name="Rectangle 34"/>
              <p:cNvSpPr/>
              <p:nvPr/>
            </p:nvSpPr>
            <p:spPr>
              <a:xfrm>
                <a:off x="8244720" y="6139080"/>
                <a:ext cx="2428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subClassOf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27" name="Line 35"/>
            <p:cNvSpPr/>
            <p:nvPr/>
          </p:nvSpPr>
          <p:spPr>
            <a:xfrm>
              <a:off x="9743400" y="6756480"/>
              <a:ext cx="86688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28" name="Rectangle 36"/>
            <p:cNvSpPr/>
            <p:nvPr/>
          </p:nvSpPr>
          <p:spPr>
            <a:xfrm>
              <a:off x="9516960" y="8583840"/>
              <a:ext cx="23878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29" name="Line 37"/>
            <p:cNvSpPr/>
            <p:nvPr/>
          </p:nvSpPr>
          <p:spPr>
            <a:xfrm>
              <a:off x="10827720" y="7950240"/>
              <a:ext cx="180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AF72-112C-4C9E-B0CE-4795D4DA428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2" name="Rectangle 2"/>
          <p:cNvSpPr/>
          <p:nvPr/>
        </p:nvSpPr>
        <p:spPr>
          <a:xfrm>
            <a:off x="914400" y="4051440"/>
            <a:ext cx="11417400" cy="67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eres Datenmode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re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aben eine festgelegte Bedeutu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ubject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predicat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MotorVehic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33" name="Group 3"/>
          <p:cNvGrpSpPr/>
          <p:nvPr/>
        </p:nvGrpSpPr>
        <p:grpSpPr>
          <a:xfrm>
            <a:off x="7130880" y="8688240"/>
            <a:ext cx="1727280" cy="736560"/>
            <a:chOff x="7130880" y="8688240"/>
            <a:chExt cx="1727280" cy="736560"/>
          </a:xfrm>
        </p:grpSpPr>
        <p:sp>
          <p:nvSpPr>
            <p:cNvPr id="634" name="Oval 4"/>
            <p:cNvSpPr/>
            <p:nvPr/>
          </p:nvSpPr>
          <p:spPr>
            <a:xfrm>
              <a:off x="7130880" y="8688240"/>
              <a:ext cx="1727280" cy="7365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5" name="Rectangle 5"/>
            <p:cNvSpPr/>
            <p:nvPr/>
          </p:nvSpPr>
          <p:spPr>
            <a:xfrm>
              <a:off x="7270560" y="8820000"/>
              <a:ext cx="14461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Truck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36" name="Group 6"/>
          <p:cNvGrpSpPr/>
          <p:nvPr/>
        </p:nvGrpSpPr>
        <p:grpSpPr>
          <a:xfrm>
            <a:off x="10051920" y="8690040"/>
            <a:ext cx="2438280" cy="749160"/>
            <a:chOff x="10051920" y="8690040"/>
            <a:chExt cx="2438280" cy="749160"/>
          </a:xfrm>
        </p:grpSpPr>
        <p:sp>
          <p:nvSpPr>
            <p:cNvPr id="637" name="Oval 7"/>
            <p:cNvSpPr/>
            <p:nvPr/>
          </p:nvSpPr>
          <p:spPr>
            <a:xfrm>
              <a:off x="10213920" y="8690040"/>
              <a:ext cx="2112840" cy="7491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8" name="Rectangle 8"/>
            <p:cNvSpPr/>
            <p:nvPr/>
          </p:nvSpPr>
          <p:spPr>
            <a:xfrm>
              <a:off x="10051920" y="8831160"/>
              <a:ext cx="2438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rdfs:Clas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39" name="Line 9"/>
          <p:cNvSpPr/>
          <p:nvPr/>
        </p:nvSpPr>
        <p:spPr>
          <a:xfrm>
            <a:off x="8842320" y="9045720"/>
            <a:ext cx="1422360" cy="1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40" name="Group 10"/>
          <p:cNvGrpSpPr/>
          <p:nvPr/>
        </p:nvGrpSpPr>
        <p:grpSpPr>
          <a:xfrm>
            <a:off x="928800" y="8636040"/>
            <a:ext cx="3720600" cy="850680"/>
            <a:chOff x="928800" y="8636040"/>
            <a:chExt cx="3720600" cy="850680"/>
          </a:xfrm>
        </p:grpSpPr>
        <p:sp>
          <p:nvSpPr>
            <p:cNvPr id="641" name="Oval 11"/>
            <p:cNvSpPr/>
            <p:nvPr/>
          </p:nvSpPr>
          <p:spPr>
            <a:xfrm>
              <a:off x="928800" y="8636040"/>
              <a:ext cx="3720600" cy="850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12"/>
            <p:cNvSpPr/>
            <p:nvPr/>
          </p:nvSpPr>
          <p:spPr>
            <a:xfrm>
              <a:off x="1422360" y="8798040"/>
              <a:ext cx="2733120" cy="5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43" name="Line 13"/>
          <p:cNvSpPr/>
          <p:nvPr/>
        </p:nvSpPr>
        <p:spPr>
          <a:xfrm flipH="1">
            <a:off x="4649400" y="9058320"/>
            <a:ext cx="24447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Rectangle 14"/>
          <p:cNvSpPr/>
          <p:nvPr/>
        </p:nvSpPr>
        <p:spPr>
          <a:xfrm>
            <a:off x="8837280" y="8470800"/>
            <a:ext cx="142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Rectangle 15"/>
          <p:cNvSpPr/>
          <p:nvPr/>
        </p:nvSpPr>
        <p:spPr>
          <a:xfrm>
            <a:off x="4560840" y="8470800"/>
            <a:ext cx="2730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46" name="Group 16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47" name="AutoShape 17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AutoShape 18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9" name="AutoShape 19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0" name="Rectangle 20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79C5-120D-450F-A963-105E7541C3E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bietet universelle Möglichkeit zur Kodierung von faktischen Daten im Web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= Aussagen über einzelne Ressourcen (Individuen) und deren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Aussagen über generische Mengen von Individuen (Klassen), z.B. Verlage, Organisationen, Personen etc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2146320" y="3517920"/>
            <a:ext cx="8705880" cy="749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2BF5-FC81-4F98-80CF-7903EDB1493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3" name="Rectangle 2"/>
          <p:cNvSpPr/>
          <p:nvPr/>
        </p:nvSpPr>
        <p:spPr>
          <a:xfrm>
            <a:off x="952560" y="4257720"/>
            <a:ext cx="11379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 Schema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eder anderes Datenmod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 </a:t>
            </a: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den speziell interpretie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Line 3"/>
          <p:cNvSpPr/>
          <p:nvPr/>
        </p:nvSpPr>
        <p:spPr>
          <a:xfrm flipV="1">
            <a:off x="6525360" y="7073640"/>
            <a:ext cx="3240" cy="16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6661440" y="7620120"/>
            <a:ext cx="92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-a“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Line 5"/>
          <p:cNvSpPr/>
          <p:nvPr/>
        </p:nvSpPr>
        <p:spPr>
          <a:xfrm>
            <a:off x="6310440" y="7074000"/>
            <a:ext cx="431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Line 6"/>
          <p:cNvSpPr/>
          <p:nvPr/>
        </p:nvSpPr>
        <p:spPr>
          <a:xfrm flipV="1">
            <a:off x="6309720" y="6756120"/>
            <a:ext cx="21564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Line 7"/>
          <p:cNvSpPr/>
          <p:nvPr/>
        </p:nvSpPr>
        <p:spPr>
          <a:xfrm flipH="1" flipV="1">
            <a:off x="6525720" y="6756120"/>
            <a:ext cx="21780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5218920" y="6263640"/>
            <a:ext cx="255708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MotorVehic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Rectangle 9"/>
          <p:cNvSpPr/>
          <p:nvPr/>
        </p:nvSpPr>
        <p:spPr>
          <a:xfrm>
            <a:off x="5870160" y="8778240"/>
            <a:ext cx="126936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Tru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61" name="Group 10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62" name="AutoShape 11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12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13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Rectangle 14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F3DA-A58D-4D1B-A352-51B5714EFB7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erhin wünschenswert: Spezifikation der logischen Zusammenhänge zwischen Individuen, Klassen und Beziehungen, um möglichst viel Semantik des Gegenstandsbereiches einzufangen, z.B.: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Verlage sind Organisationen."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Nur Personen schreiben Bücher.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Datenbanksprache: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1D64-5988-427C-B4B3-91DDD7E9F04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956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eil der W3C Recommendation zu RDF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möglicht Spezifikation von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schemat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(auch: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terminolog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pezielles RDF-Vokabular (also: jedes RDFS-Dokument ist ein RDF-Dokumen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amensraum (i.d.R. abgekürzt mi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: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w3.org/2000/01/rdf-schema#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621F-D584-4886-8B48-885BF0C1FBA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91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jedoch: Vokabular nicht themengebunden (wie z.B. bei FOAF), sondern generisch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rlaubt die Spezifikation (von Teilen) der Semantik beliebiger RDF-Vokabulare (ist also eine Art „Metavokabular“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orteil: jede Software mit RDFS-Unterstützung interpretiert jedes vermittels RDFS definierte Vokabular korrek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unktionalität macht RDFS zu einer Ontologiesprache (für leichtgewichtige - engl.: lightweight - Ontologien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 little semantics goes a long way.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9041-DB5F-40EC-8145-F182EDBCA55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5:49:41Z</dcterms:created>
  <dc:creator/>
  <dc:description/>
  <cp:keywords/>
  <dc:language>en-US</dc:language>
  <cp:lastModifiedBy>Sebastian Rudolph</cp:lastModifiedBy>
  <dcterms:modified xsi:type="dcterms:W3CDTF">2008-11-05T16:00:19Z</dcterms:modified>
  <cp:revision>1</cp:revision>
  <dc:subject/>
  <dc:title>Folie 1</dc:title>
</cp:coreProperties>
</file>